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8.wmf" ContentType="image/x-wmf"/>
  <Override PartName="/ppt/media/image17.wmf" ContentType="image/x-wmf"/>
  <Override PartName="/ppt/media/image15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259-3093-4A00-9ABB-ECEEE32B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A4C-48C1-4A31-B505-BA52FAB3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0CF-4956-42C8-A938-72C35566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FB9-C2BD-41A7-8539-0B886EC8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0A59-15BB-430F-984D-D93678A8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6245-F4E9-49AF-9305-BA77408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186B-1231-4A5C-935E-17538F1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0A1F-B011-459B-8271-B8E3472B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873D-109A-4FBE-B6FE-EA74F5C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C1C1-01A4-42A2-9A2C-00CC1C90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631A-6914-4E11-8A49-F246A58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B82-6E95-426D-8EEC-0E67DF5C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9B7E-3B6E-44DD-B48C-5AF4E88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881D-F094-4052-80EC-2CAE07B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CFA9-51CB-46B8-AD32-BFE3D950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AA8C-9892-468A-980A-1D290C0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D5FC-91B8-4C50-B3A1-73E945A8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6D7-16DA-4EB4-BA86-2C3D928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5D5-1B5D-4B0C-A358-F19F61FE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BFD-7433-41DD-BE0D-CA3A52CF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6E3-1B39-4B7B-8363-A7F65B6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901-9064-4730-AD8A-A80B4DA8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AD9-DCA9-481C-8F43-B309681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24D-667D-4B83-9AC3-516BDD5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388A-44B6-4158-AFFC-154DBDC78800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8C3C-853F-4BD5-8383-E1705C7C39C2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1760" cy="268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14600" y="60948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N VENI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2590920"/>
            <a:ext cx="739152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ÎN ÎMPĂRĂŢIA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572000"/>
            <a:ext cx="8381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VEŞTILOR   MATEMATICE 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3800" y="30492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+ 200 g + 275 g + 325 g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= 1 000g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= 1 k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440" y="198108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Tahoma"/>
              </a:rPr>
              <a:t>1 kg x 7 = 7 kg ( crudităţ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4572000"/>
            <a:ext cx="6782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ftă bună 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362320" y="2209680"/>
            <a:ext cx="7195680" cy="4800240"/>
            <a:chOff x="2362320" y="2209680"/>
            <a:chExt cx="7195680" cy="4800240"/>
          </a:xfrm>
        </p:grpSpPr>
        <p:grpSp>
          <p:nvGrpSpPr>
            <p:cNvPr id="111" name=""/>
            <p:cNvGrpSpPr/>
            <p:nvPr/>
          </p:nvGrpSpPr>
          <p:grpSpPr>
            <a:xfrm>
              <a:off x="2362320" y="2209680"/>
              <a:ext cx="887040" cy="871920"/>
              <a:chOff x="2362320" y="2209680"/>
              <a:chExt cx="887040" cy="871920"/>
            </a:xfrm>
          </p:grpSpPr>
          <p:sp>
            <p:nvSpPr>
              <p:cNvPr id="112" name="" hidden="1"/>
              <p:cNvSpPr/>
              <p:nvPr/>
            </p:nvSpPr>
            <p:spPr>
              <a:xfrm>
                <a:off x="2362320" y="2209680"/>
                <a:ext cx="887040" cy="87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62320" y="2209680"/>
                <a:ext cx="887040" cy="871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57880" y="2500200"/>
                <a:ext cx="295560" cy="290520"/>
              </a:xfrm>
              <a:prstGeom prst="rect">
                <a:avLst/>
              </a:prstGeom>
              <a:solidFill>
                <a:srgbClr val="ccc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62320" y="2209680"/>
                <a:ext cx="887040" cy="871920"/>
              </a:xfrm>
              <a:prstGeom prst="rtTriangl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57880" y="2500200"/>
                <a:ext cx="295560" cy="29052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" name="000803_1090_2051_v__v" descr=""/>
            <p:cNvPicPr/>
            <p:nvPr/>
          </p:nvPicPr>
          <p:blipFill>
            <a:blip r:embed="rId2"/>
            <a:stretch/>
          </p:blipFill>
          <p:spPr>
            <a:xfrm>
              <a:off x="2476440" y="3124080"/>
              <a:ext cx="662904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3390840" y="2552400"/>
              <a:ext cx="54860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iplomă de meri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360" y="2209680"/>
              <a:ext cx="6281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BS01044_" descr=""/>
            <p:cNvPicPr/>
            <p:nvPr/>
          </p:nvPicPr>
          <p:blipFill>
            <a:blip r:embed="rId3"/>
            <a:stretch/>
          </p:blipFill>
          <p:spPr>
            <a:xfrm>
              <a:off x="2362320" y="3124080"/>
              <a:ext cx="114300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BS00348_" descr=""/>
            <p:cNvPicPr/>
            <p:nvPr/>
          </p:nvPicPr>
          <p:blipFill>
            <a:blip r:embed="rId4"/>
            <a:stretch/>
          </p:blipFill>
          <p:spPr>
            <a:xfrm>
              <a:off x="7962480" y="3009600"/>
              <a:ext cx="1075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BD05102_" descr=""/>
            <p:cNvPicPr/>
            <p:nvPr/>
          </p:nvPicPr>
          <p:blipFill>
            <a:blip r:embed="rId5"/>
            <a:stretch/>
          </p:blipFill>
          <p:spPr>
            <a:xfrm>
              <a:off x="4991040" y="5752800"/>
              <a:ext cx="1548000" cy="125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343400" y="3200400"/>
            <a:ext cx="198108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438280" y="45720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LOR  MAI 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TEŢI  COPII,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24964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4964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666880" y="0"/>
            <a:ext cx="4419720" cy="3417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76920" y="83808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PUPICI 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ÎNCURAJA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5720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 Black"/>
              </a:rPr>
              <a:t>CĂRŢI  PENTRU  FIECA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1760" cy="268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0320" y="209520"/>
            <a:ext cx="572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Pentru că şti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cât de  mult iubiţi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poveştile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vă invit la drum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4197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Comic Sans MS"/>
              </a:rPr>
              <a:t>Ne revedem la sfârşitul călătoriei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9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Pentru a creşte sănătos, un copil are nevoie de  cel puţin 9 ore de somn pe noapt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Ana se culcă la orele 24 şi este sculată la orele 7, pentru a merge la şcoal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Doarme suficient fetiţ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343640" cy="5676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9600" y="59436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7 ore – 0 ore = 7 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8880" y="431784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748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160" y="1752480"/>
            <a:ext cx="8448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a să ajungă la şcoală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opiii dintr-un sat africa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parcurg zilnic 2 km şi 6 h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ăţi dam au de me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dus-întors aceşti copii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07280" cy="5637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9960" y="5567400"/>
            <a:ext cx="73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 Black"/>
              </a:rPr>
              <a:t>2 km 6 hm =200 dam + 60 dam = 260 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58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 Black"/>
              </a:rPr>
              <a:t>260 dam x 2 = 520 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68920" y="3581280"/>
            <a:ext cx="257508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3240" y="304920"/>
            <a:ext cx="8138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Nenea Mihai a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la piciorul drept numărul 40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iar la cel stâng numărul 43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Ştiind că o perech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de pantofi costă 39 lei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aflaţi ce sumă plăteş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la cas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3606840" cy="373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36600" y="1295280"/>
            <a:ext cx="46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Arial Black"/>
              </a:rPr>
              <a:t>39 lei x 2 = 78 l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210360" y="3124080"/>
            <a:ext cx="293364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2040" y="380880"/>
            <a:ext cx="735264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	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Pentru o salată de crudităţ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se folosesc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morcov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ţelin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75 g castraveţ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325 g roşi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	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Calculaţi câte  k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de crudităţi se foloses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pentru 7 sa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50:05Z</dcterms:created>
  <dc:creator>calcu</dc:creator>
  <dc:description/>
  <dc:language>en-US</dc:language>
  <cp:lastModifiedBy>calcu</cp:lastModifiedBy>
  <dcterms:modified xsi:type="dcterms:W3CDTF">2007-10-25T07:14:47Z</dcterms:modified>
  <cp:revision>24</cp:revision>
  <dc:subject/>
  <dc:title>Slide 1</dc:title>
</cp:coreProperties>
</file>